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500-6295-43D4-B770-D57E07D7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534-08A0-4510-AB3F-9C5412F4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584-296C-47CD-8A94-CDE1667E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FF0-5595-437A-8A8F-D561BF19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326-C101-4173-B7D2-83B80E44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0E5-B9D4-49A8-9AC7-BDA4518D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0AF-AECB-40E9-8C3E-689F1F3F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B0E-DB05-4D5B-9870-61F2BDF8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FFC-965B-41EF-B433-F3D036D2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FA2-9FC9-4602-AC0F-6429C0CC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7BD-C525-4AE7-ADF7-E2498AB8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324-8B43-4B39-9987-DCEE6BDF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5F5E-5773-4D86-963C-C91917EA0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Cycle of the Butterf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2133360"/>
            <a:ext cx="4152960" cy="60339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8" descr="C:\Users\dwilliams2\AppData\Local\Microsoft\Windows\Temporary Internet Files\Content.IE5\WGVGCCAF\MC900438041[1].png"/>
          <p:cNvPicPr/>
          <p:nvPr/>
        </p:nvPicPr>
        <p:blipFill>
          <a:blip r:embed="rId1"/>
          <a:stretch/>
        </p:blipFill>
        <p:spPr>
          <a:xfrm>
            <a:off x="5486400" y="-60480"/>
            <a:ext cx="1371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5"/>
          <p:cNvGrpSpPr/>
          <p:nvPr/>
        </p:nvGrpSpPr>
        <p:grpSpPr>
          <a:xfrm>
            <a:off x="289080" y="1752480"/>
            <a:ext cx="1904760" cy="6731640"/>
            <a:chOff x="289080" y="1752480"/>
            <a:chExt cx="1904760" cy="6731640"/>
          </a:xfrm>
        </p:grpSpPr>
        <p:pic>
          <p:nvPicPr>
            <p:cNvPr id="45" name="Picture 32" descr="http://www.enchantedlearning.com/bgifs/Bflyegg.GIF"/>
            <p:cNvPicPr/>
            <p:nvPr/>
          </p:nvPicPr>
          <p:blipFill>
            <a:blip r:embed="rId2"/>
            <a:stretch/>
          </p:blipFill>
          <p:spPr>
            <a:xfrm>
              <a:off x="485640" y="1752480"/>
              <a:ext cx="13237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34" descr="C:\Users\dwilliams2\AppData\Local\Microsoft\Windows\Temporary Internet Files\Content.IE5\ES5BI6NL\MC900438038[1].png"/>
            <p:cNvPicPr/>
            <p:nvPr/>
          </p:nvPicPr>
          <p:blipFill>
            <a:blip r:embed="rId3"/>
            <a:stretch/>
          </p:blipFill>
          <p:spPr>
            <a:xfrm>
              <a:off x="361800" y="2971800"/>
              <a:ext cx="14475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36" descr="Closeup picture of a green monarch butterfly chrysalis."/>
            <p:cNvPicPr/>
            <p:nvPr/>
          </p:nvPicPr>
          <p:blipFill>
            <a:blip r:embed="rId4"/>
            <a:stretch/>
          </p:blipFill>
          <p:spPr>
            <a:xfrm>
              <a:off x="666720" y="4648320"/>
              <a:ext cx="838080" cy="14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37" descr="C:\Users\dwilliams2\AppData\Local\Microsoft\Windows\Temporary Internet Files\Content.IE5\2DC45C48\MP900444860[1].jpg"/>
            <p:cNvPicPr/>
            <p:nvPr/>
          </p:nvPicPr>
          <p:blipFill>
            <a:blip r:embed="rId5"/>
            <a:stretch/>
          </p:blipFill>
          <p:spPr>
            <a:xfrm>
              <a:off x="289080" y="6629760"/>
              <a:ext cx="190476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1"/>
            <p:cNvSpPr/>
            <p:nvPr/>
          </p:nvSpPr>
          <p:spPr>
            <a:xfrm>
              <a:off x="671040" y="2743200"/>
              <a:ext cx="5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g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2"/>
            <p:cNvSpPr/>
            <p:nvPr/>
          </p:nvSpPr>
          <p:spPr>
            <a:xfrm>
              <a:off x="538920" y="403848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terpilla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Box 3"/>
            <p:cNvSpPr/>
            <p:nvPr/>
          </p:nvSpPr>
          <p:spPr>
            <a:xfrm>
              <a:off x="612720" y="6131880"/>
              <a:ext cx="99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rysal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Box 4"/>
            <p:cNvSpPr/>
            <p:nvPr/>
          </p:nvSpPr>
          <p:spPr>
            <a:xfrm>
              <a:off x="495720" y="8115840"/>
              <a:ext cx="15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ult Butterf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1:17:38Z</dcterms:created>
  <dc:creator>Deborah Williams</dc:creator>
  <dc:description/>
  <dc:language>en-US</dc:language>
  <cp:lastModifiedBy>344-student</cp:lastModifiedBy>
  <dcterms:modified xsi:type="dcterms:W3CDTF">2012-10-15T17:30:44Z</dcterms:modified>
  <cp:revision>10</cp:revision>
  <dc:subject/>
  <dc:title>PowerPoint Presentation</dc:title>
</cp:coreProperties>
</file>